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81EE8-19C7-4983-948E-FE85D6F18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3BEFA-A722-4B47-9845-BBA0CB045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F8700-0149-4498-8185-C095D0CDD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A26B3-F08F-400E-9397-80368CB37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EFE16-A970-4BE0-AD58-139F14C87B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3E839-C291-4510-8D1D-F1D91EC55B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9531B-5ED8-4501-8D5E-1797882E2E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C6820-AECC-456E-A860-C709539219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59E6B-4841-4C3D-A302-AC9316B0FB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325DB-C5B8-414C-B0E6-E336AA47F0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F038E-1067-4084-AC38-FE9169C56A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88721-4E11-4F46-AB1A-EC4F43548A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9E76C-7A38-46B1-A171-2DD53F59F1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BDD44-F867-4BDB-B139-47B308BC19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B6FDA-8892-42BB-837A-C90BB2EEB0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55F3B-FB50-45B5-91FB-390143488B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0B442-9836-41F5-A3A9-E3638AA810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97E59-6A9B-4995-808E-E03FC2316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457CE-27A8-4BEE-8432-D420F3F18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CF0AA-C087-4C47-BC6A-0C028E095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0685B-D465-451C-8401-670C69F31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DCFB6-97B8-400A-944A-F54905876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B3D80-CF47-4099-B6B9-F4736DDE3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65BBF-8D05-42CD-93D6-4E4140E939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1B39D8A-983D-4149-B9A2-6D84C6962479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7AB7F9B-5DF3-4A23-AF7C-489F0546960A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11592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84328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8DEAEC6-D5AB-4017-ABA8-1C64C9BA0637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BCBF61E-5873-426A-98BA-7B52F1D1BE8A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thresholds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4E32-85BC-4788-9402-0BB9F13D492C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You can use small 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ou can do factor analysis with small sample sizes (20, 30) provided the factor loadings are high (0.7, 0.8). Hair et al. (1998) give threshold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threshol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di and Williams, 2010 suggest robustness tests for small N e.g. jackknife or bootstrap C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21-09-29T12:08:42Z</dcterms:modified>
  <cp:revision>341</cp:revision>
  <dc:subject/>
  <dc:title>No Slide Title</dc:title>
</cp:coreProperties>
</file>